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939-32E7-4420-9B55-2FB2E3F0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496-38B1-4C0C-B7CA-93F6424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EE5-D7E9-4326-8F42-53F863F5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966-8B17-4F4F-BC75-5014997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C82-48A1-4874-8070-52B1EF9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C2D-EC47-4323-B0AB-039FA275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F6E-E29E-404B-871A-B1F006F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DB5-DA94-4E91-BA2C-AC04DBEE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035-05C9-416A-BF7D-29CBB11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93D-838C-4ECE-BB43-0BA69F1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33F-BB36-4D5A-8001-111D40F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66E-F8F7-4283-AFA7-B0F782D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B18B-F918-4438-BBF3-94680EBC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S/Medical Retention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736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 Process MOS/Medical Retent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:  Given a requirement to process MOS Medical Retention Board for Soldiers being evaluated and AR 600-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  Identified the appropriate voting and nonvoting members, their responsibilities, and the process for MMRB summ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308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3T15:34:36Z</dcterms:created>
  <dc:creator>ADG</dc:creator>
  <dc:description/>
  <dc:language>en-US</dc:language>
  <cp:lastModifiedBy>Administrator</cp:lastModifiedBy>
  <dcterms:modified xsi:type="dcterms:W3CDTF">2005-07-08T12:11:42Z</dcterms:modified>
  <cp:revision>12</cp:revision>
  <dc:subject/>
  <dc:title>Process MOS Medical Retention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9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